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8B12-8EEC-4527-83B9-88256A4681C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98F-88BC-4CA1-8373-1C4FA0944C18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B58-E007-4B28-91C3-535BD01F3A25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CF2-77FA-4022-BDAF-4209250E7253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DA0-DBEF-4B68-8F47-B61A8FC1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C57-6BE5-43E8-A0E9-99707432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B84-D3BD-4515-A402-10601A2A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BC8-BB46-4FAE-9143-139FEC71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4430-7335-4737-A5D4-03F35875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A1F8-CDE4-4184-A070-EF8AC06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545F-AC2B-4548-8BD0-96B5CD5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408-D3DA-4C95-94B9-3177BC80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B0C-B210-474B-911A-56AFA83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FE0-0A4B-4B16-B8CF-CC17268E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DEBC-3C95-4515-8F89-A69F469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418-F20F-48D8-9AB3-BF1D3C96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79C-64C4-4B3E-AE5B-0D8B8C0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203E-4BC8-4BD3-BFA1-78FF32DC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9792-BF4E-4C63-9979-BF2DFED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CEA-A72F-4DE8-8184-EC0AE18D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AC77-EFBE-456A-8106-FF0EDFD3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AD53-18BD-4833-8673-198B1A80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BEB6-D913-49C6-AC71-5883A6A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326F-6528-4A2F-A3AA-7E19B882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293C-9C36-4208-BF26-4E7CA00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81C0-75AF-4B38-B88C-9C88DB9B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C8C-686F-4BA0-A4D4-B05A909A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DAC6-FF34-46EB-82EE-30982BD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A243-3792-4598-992D-B1FB8B6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A398-AC16-4245-9EB9-61F243B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CD40-DB5A-427F-BDE1-13F7147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C6E7-4D41-4A7E-BAAC-F2966A54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67A2-A1DE-464E-A1CE-F8DF9A76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AA4F-EE20-425C-A18B-8C87D223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D4DE-3376-42D5-9FFA-549629B7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E586-2374-439D-AA68-B7C3A22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B889-05C7-4D46-BACC-98E6CFF1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00E-4ED7-448E-83F4-A5DD7F2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B2AF3-C07B-4909-B17F-A5005534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620A-7EA9-4A87-AF4C-FE262C3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1372-EA0B-4155-827E-FFE22DAD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DCFE-C410-4B73-8603-F1C96334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A6572-43E1-45E6-8044-F297668F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55C3-BF75-462A-897F-9E519A1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39AD-F8BE-4467-8FB9-79C03DA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98CF-5DD6-4BBE-9822-8D7F76AF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8C76-6031-4FD2-9A12-81E457C0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83B-253A-4145-8285-0A63AE55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954-C3EE-41BD-A4A8-FC45870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379-FC94-45D0-8743-5BA7E20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9BD-FD97-4264-B254-C5044B53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D37-B8F8-4CA5-B7AE-DA9D3BA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906-78E1-423C-9AB9-51B8099FA1E0}" type="slidenum">
              <a:rPr b="0" lang="zh-TW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557-953F-4DC0-8DA0-DA37C0C7CA34}" type="slidenum">
              <a:rPr b="0" lang="zh-TW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922-C776-46D6-8854-38ABE02A747C}" type="slidenum">
              <a:rPr b="0" lang="zh-TW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BA8E-61A6-4411-926D-CBA7E80A07D1}" type="slidenum">
              <a:rPr b="0" lang="zh-TW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250920" y="26028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國立東港高級海事水產職業學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843280" y="1773360"/>
            <a:ext cx="60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49100"/>
                </a:solidFill>
                <a:latin typeface="Arial"/>
                <a:ea typeface="標楷體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49100"/>
                </a:solidFill>
                <a:latin typeface="Arial"/>
                <a:ea typeface="標楷體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9100"/>
                </a:solidFill>
                <a:latin typeface="Arial"/>
                <a:ea typeface="標楷體"/>
              </a:rPr>
              <a:t>110</a:t>
            </a:r>
            <a:r>
              <a:rPr b="1" lang="zh-TW" sz="4800" spc="-1" strike="noStrike">
                <a:solidFill>
                  <a:srgbClr val="f49100"/>
                </a:solidFill>
                <a:latin typeface="Arial"/>
                <a:ea typeface="標楷體"/>
              </a:rPr>
              <a:t>學年度第二學期</a:t>
            </a:r>
            <a:br>
              <a:rPr sz="6000"/>
            </a:b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期末校務會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圖書館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08cc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日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:111.6.2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第一綜合教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1"/>
          <p:cNvPicPr/>
          <p:nvPr/>
        </p:nvPicPr>
        <p:blipFill>
          <a:blip r:embed="rId1"/>
          <a:stretch/>
        </p:blipFill>
        <p:spPr>
          <a:xfrm>
            <a:off x="179280" y="1844640"/>
            <a:ext cx="3100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標題 1"/>
          <p:cNvSpPr/>
          <p:nvPr/>
        </p:nvSpPr>
        <p:spPr>
          <a:xfrm>
            <a:off x="1187280" y="333360"/>
            <a:ext cx="6858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結    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歡迎大家持續推薦好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歡迎同仁多多借閱好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祝福同仁暑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             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平 安 順  心 </a:t>
            </a:r>
            <a:r>
              <a:rPr b="1" lang="en-US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       </a:t>
            </a: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身 康 體 健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                   </a:t>
            </a:r>
            <a:r>
              <a:rPr b="0" lang="zh-TW" sz="50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館藏利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4360" y="15494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目前館藏數量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:39546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本學期借閱冊數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:651(6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20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止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本學期借閱人次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:327(6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20</a:t>
            </a:r>
            <a:r>
              <a:rPr b="0" lang="zh-TW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止</a:t>
            </a:r>
            <a:r>
              <a:rPr b="0" lang="en-US" sz="2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D:\scan\img-621075456\img-621075456-0001.tif"/>
          <p:cNvPicPr/>
          <p:nvPr/>
        </p:nvPicPr>
        <p:blipFill>
          <a:blip r:embed="rId1"/>
          <a:stretch/>
        </p:blipFill>
        <p:spPr>
          <a:xfrm>
            <a:off x="782640" y="3068640"/>
            <a:ext cx="756288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 </a:t>
            </a: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閱讀心得寫作比賽得獎名單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823400" y="140112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18" descr=""/>
          <p:cNvPicPr/>
          <p:nvPr/>
        </p:nvPicPr>
        <p:blipFill>
          <a:blip r:embed="rId1"/>
          <a:stretch/>
        </p:blipFill>
        <p:spPr>
          <a:xfrm>
            <a:off x="900000" y="1401840"/>
            <a:ext cx="7272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ff0000"/>
                </a:solidFill>
                <a:latin typeface="華康特粗楷體(P)"/>
                <a:ea typeface="華康特粗楷體(P)"/>
              </a:rPr>
              <a:t>               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0" lang="zh-TW" sz="5000" spc="-1" strike="noStrike">
                <a:solidFill>
                  <a:srgbClr val="ff0000"/>
                </a:solidFill>
                <a:latin typeface="華康特粗楷體(P)"/>
                <a:ea typeface="華康特粗楷體(P)"/>
              </a:rPr>
              <a:t>                   </a:t>
            </a:r>
            <a:br>
              <a:rPr sz="5000"/>
            </a:b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        </a:t>
            </a: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小論文比賽得獎名單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全國高級中學小論文寫作 第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1110315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梯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110-2 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得獎作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7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56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   </a:t>
            </a:r>
            <a:br>
              <a:rPr sz="5000"/>
            </a:b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                  </a:t>
            </a:r>
            <a:r>
              <a:rPr b="0" lang="zh-TW" sz="50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每日一班晨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6" descr="Z:\0陳顯仁圖書館資料\圖書館\0活動計畫\3每日一班(晨間閱讀)\110-2\110-2晨讀照片\P1070194.JPG"/>
          <p:cNvPicPr/>
          <p:nvPr/>
        </p:nvPicPr>
        <p:blipFill>
          <a:blip r:embed="rId1"/>
          <a:stretch/>
        </p:blipFill>
        <p:spPr>
          <a:xfrm>
            <a:off x="755640" y="1504800"/>
            <a:ext cx="3456000" cy="338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Z:\0陳顯仁圖書館資料\圖書館\0活動計畫\3每日一班(晨間閱讀)\110-2\110-2晨讀照片\P1070187.JPG"/>
          <p:cNvPicPr/>
          <p:nvPr/>
        </p:nvPicPr>
        <p:blipFill>
          <a:blip r:embed="rId2"/>
          <a:stretch/>
        </p:blipFill>
        <p:spPr>
          <a:xfrm>
            <a:off x="4211640" y="1484280"/>
            <a:ext cx="4503600" cy="3006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Z:\0陳顯仁圖書館資料\圖書館\0活動計畫\3每日一班(晨間閱讀)\110-2\110-2晨讀照片\P1070192.JPG"/>
          <p:cNvPicPr/>
          <p:nvPr/>
        </p:nvPicPr>
        <p:blipFill>
          <a:blip r:embed="rId3"/>
          <a:stretch/>
        </p:blipFill>
        <p:spPr>
          <a:xfrm>
            <a:off x="2411280" y="4005360"/>
            <a:ext cx="46310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         </a:t>
            </a:r>
            <a:r>
              <a:rPr b="0" lang="zh-TW" sz="50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編印第</a:t>
            </a:r>
            <a:r>
              <a:rPr b="0" lang="en-US" sz="50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24</a:t>
            </a:r>
            <a:r>
              <a:rPr b="0" lang="zh-TW" sz="50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期東水簡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4" descr="D:\scan\img-621080834\img-621080834-0001.jpg"/>
          <p:cNvPicPr/>
          <p:nvPr/>
        </p:nvPicPr>
        <p:blipFill>
          <a:blip r:embed="rId1"/>
          <a:stretch/>
        </p:blipFill>
        <p:spPr>
          <a:xfrm>
            <a:off x="250920" y="1413000"/>
            <a:ext cx="895824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192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特粗楷體(P)"/>
                <a:ea typeface="華康特粗楷體(P)"/>
              </a:rPr>
              <a:t>                 </a:t>
            </a:r>
            <a:r>
              <a:rPr b="0" lang="zh-TW" sz="4000" spc="-1" strike="noStrike">
                <a:solidFill>
                  <a:srgbClr val="ff0000"/>
                </a:solidFill>
                <a:latin typeface="華康特粗楷體(P)"/>
                <a:ea typeface="華康特粗楷體(P)"/>
              </a:rPr>
              <a:t>其他經常性工作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特粗楷體(P)"/>
                <a:ea typeface="華康特粗楷體(P)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新書推薦、購置、審核、展示、上架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辦理</a:t>
            </a: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111.03.10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梯次全國閱讀心得寫作比賽投稿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辦理</a:t>
            </a: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111.03.15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梯次全國小論文寫作比賽投稿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一、二年級晨讀活動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5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圖書館志工招募、徵集、組訓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6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圖書館各項月報表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7.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辦理家長會各項活動及會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(1)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邀請家長代表出席各項會議及重要活動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包含校慶大會及畢業典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(2)</a:t>
            </a: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召開期末家長委員會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dbf5f9"/>
                </a:solidFill>
                <a:latin typeface="Constantia"/>
                <a:ea typeface="新細明體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8000"/>
                </a:solidFill>
                <a:latin typeface="Constantia"/>
                <a:ea typeface="新細明體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標題 1"/>
          <p:cNvSpPr/>
          <p:nvPr/>
        </p:nvSpPr>
        <p:spPr>
          <a:xfrm>
            <a:off x="826920" y="549360"/>
            <a:ext cx="685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  <a:ea typeface="微軟正黑體"/>
              </a:rPr>
              <a:t>            </a:t>
            </a:r>
            <a:r>
              <a:rPr b="0" lang="zh-TW" sz="5000" spc="-1" strike="noStrike">
                <a:solidFill>
                  <a:srgbClr val="04617b"/>
                </a:solidFill>
                <a:latin typeface="華康楷書體W5(P)"/>
                <a:ea typeface="華康楷書體W5(P)"/>
              </a:rPr>
              <a:t>鼓勵同學提早準備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276640"/>
            <a:ext cx="843588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                           </a:t>
            </a:r>
            <a:r>
              <a:rPr b="0" lang="zh-TW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下學期</a:t>
            </a:r>
            <a:r>
              <a:rPr b="0" lang="en-US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111-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全國閱讀心得寫作比賽投稿截止時間</a:t>
            </a:r>
            <a:r>
              <a:rPr b="0" lang="en-US" sz="32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10/10</a:t>
            </a:r>
            <a:r>
              <a:rPr b="0" lang="zh-TW" sz="32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小論文比賽投稿截止時間</a:t>
            </a:r>
            <a:r>
              <a:rPr b="0" lang="en-US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10/15</a:t>
            </a:r>
            <a:r>
              <a:rPr b="0" lang="zh-TW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華康楷書體W5(P)"/>
                <a:ea typeface="華康楷書體W5(P)"/>
              </a:rPr>
              <a:t>請師長鼓勵同學，提早準備，踴躍投稿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華康特粗楷體(P)"/>
                <a:ea typeface="華康特粗楷體(P)"/>
              </a:rPr>
              <a:t>       </a:t>
            </a:r>
            <a:r>
              <a:rPr b="0" lang="zh-TW" sz="5000" spc="-1" strike="noStrike">
                <a:solidFill>
                  <a:srgbClr val="ff0000"/>
                </a:solidFill>
                <a:latin typeface="華康特粗楷體(P)"/>
                <a:ea typeface="華康特粗楷體(P)"/>
              </a:rPr>
              <a:t>歡迎使用圖書館資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  <a:ea typeface="新細明體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感謝總務處已於圖書館六樓閱讀區裝置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六台冷氣機，供師生閱讀使用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圖書館五、六樓皆有</a:t>
            </a:r>
            <a:r>
              <a:rPr b="0" lang="en-US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wifi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歡迎公用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歡迎大家推薦優質好書供購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歡迎師長同仁利用課堂，帶領、安排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   </a:t>
            </a:r>
            <a:r>
              <a:rPr b="0" lang="zh-TW" sz="3600" spc="-1" strike="noStrike">
                <a:solidFill>
                  <a:srgbClr val="000000"/>
                </a:solidFill>
                <a:latin typeface="華康標楷體(P)"/>
                <a:ea typeface="華康標楷體(P)"/>
              </a:rPr>
              <a:t>同學至圖書館閱讀分享</a:t>
            </a:r>
            <a:r>
              <a:rPr b="0" lang="zh-TW" sz="3600" spc="-1" strike="noStrike">
                <a:solidFill>
                  <a:srgbClr val="000000"/>
                </a:solidFill>
                <a:latin typeface="Constantia"/>
                <a:ea typeface="新細明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5.</a:t>
            </a:r>
            <a:r>
              <a:rPr b="0" lang="zh-TW" sz="3600" spc="-1" strike="noStrike">
                <a:solidFill>
                  <a:srgbClr val="000000"/>
                </a:solidFill>
                <a:latin typeface="華康楷書體W5(P)"/>
                <a:ea typeface="華康楷書體W5(P)"/>
              </a:rPr>
              <a:t>線上授課期間，歡迎師長使用資源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23:37:06Z</dcterms:created>
  <dc:creator>楊敏雄</dc:creator>
  <dc:description/>
  <dc:language>en-US</dc:language>
  <cp:lastModifiedBy>admin</cp:lastModifiedBy>
  <dcterms:modified xsi:type="dcterms:W3CDTF">2022-06-21T00:25:04Z</dcterms:modified>
  <cp:revision>602</cp:revision>
  <dc:subject/>
  <dc:title>國立東港高級海事水產職業學校</dc:title>
</cp:coreProperties>
</file>