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4BE3-CFD2-4C64-BE2E-4823C17B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68400"/>
            <a:ext cx="8229240" cy="18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424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8424-6FDA-4C68-97DE-130DE139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68400"/>
            <a:ext cx="8229240" cy="18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206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424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4424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68BA-F329-4394-B936-8EDE61C4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68400"/>
            <a:ext cx="8229240" cy="18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206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206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424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4424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4424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B13C-7127-46D1-AA8D-83876D84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68400"/>
            <a:ext cx="8229240" cy="18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B331-308F-4F67-B54E-62B8FD20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68400"/>
            <a:ext cx="8229240" cy="18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4795-F485-47C4-A4FC-80475083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68400"/>
            <a:ext cx="8229240" cy="18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2060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3583-E8BA-4759-8CCC-19D82417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68400"/>
            <a:ext cx="8229240" cy="18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F3C-9590-420C-BD2E-04DF32C7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5841-3EBD-413E-B214-52B07711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68400"/>
            <a:ext cx="8229240" cy="18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2060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424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7A4A-C86D-43F5-8F23-C2E49666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68400"/>
            <a:ext cx="8229240" cy="18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206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4424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5A2C-21DF-4A7B-AC54-F8D0A98B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68400"/>
            <a:ext cx="8229240" cy="18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206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424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774B-CDD5-435E-83FE-27F59192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未命名"/>
          <p:cNvPicPr/>
          <p:nvPr/>
        </p:nvPicPr>
        <p:blipFill>
          <a:blip r:embed="rId2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校徽"/>
          <p:cNvPicPr/>
          <p:nvPr/>
        </p:nvPicPr>
        <p:blipFill>
          <a:blip r:embed="rId3"/>
          <a:stretch/>
        </p:blipFill>
        <p:spPr>
          <a:xfrm>
            <a:off x="7658280" y="5300640"/>
            <a:ext cx="1485720" cy="1557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7" descr="bg_pic"/>
          <p:cNvPicPr/>
          <p:nvPr/>
        </p:nvPicPr>
        <p:blipFill>
          <a:blip r:embed="rId4"/>
          <a:stretch/>
        </p:blipFill>
        <p:spPr>
          <a:xfrm>
            <a:off x="0" y="-100080"/>
            <a:ext cx="91440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1" marL="267480" indent="-267480" algn="ctr">
              <a:spcBef>
                <a:spcPts val="1001"/>
              </a:spcBef>
              <a:buClr>
                <a:srgbClr val="000000"/>
              </a:buClr>
              <a:buFont typeface="標楷體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2" marL="267480" indent="-267480" algn="ctr">
              <a:spcBef>
                <a:spcPts val="1001"/>
              </a:spcBef>
              <a:buClr>
                <a:srgbClr val="000000"/>
              </a:buClr>
              <a:buFont typeface="標楷體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3" marL="267480" indent="-267480" algn="ctr">
              <a:spcBef>
                <a:spcPts val="1001"/>
              </a:spcBef>
              <a:buClr>
                <a:srgbClr val="000000"/>
              </a:buClr>
              <a:buFont typeface="標楷體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4" marL="267480" indent="-267480" algn="ctr">
              <a:spcBef>
                <a:spcPts val="1001"/>
              </a:spcBef>
              <a:buClr>
                <a:srgbClr val="000000"/>
              </a:buClr>
              <a:buFont typeface="標楷體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5" marL="267480" indent="-267480" algn="ctr">
              <a:spcBef>
                <a:spcPts val="1001"/>
              </a:spcBef>
              <a:buClr>
                <a:srgbClr val="000000"/>
              </a:buClr>
              <a:buFont typeface="標楷體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6" marL="267480" indent="-267480" algn="ctr">
              <a:spcBef>
                <a:spcPts val="1001"/>
              </a:spcBef>
              <a:buClr>
                <a:srgbClr val="000000"/>
              </a:buClr>
              <a:buFont typeface="標楷體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標楷體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0608-F001-4AF5-A709-3B1B0B7DF5FD}" type="slidenum"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000000"/>
                </a:solidFill>
                <a:latin typeface="標楷體"/>
              </a:rPr>
              <a:t>東港海事教師會</a:t>
            </a:r>
            <a:endParaRPr b="0" lang="en-US" sz="7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</a:rPr>
              <a:t>107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</a:rPr>
              <a:t>學年度第</a:t>
            </a:r>
            <a:r>
              <a:rPr b="0" lang="en-US" sz="4800" spc="-1" strike="noStrike">
                <a:solidFill>
                  <a:srgbClr val="000000"/>
                </a:solidFill>
                <a:latin typeface="標楷體"/>
              </a:rPr>
              <a:t>1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</a:rPr>
              <a:t>學期</a:t>
            </a:r>
            <a:endParaRPr b="0" lang="en-US" sz="48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</a:rPr>
              <a:t>期末校務會議會務報告</a:t>
            </a:r>
            <a:endParaRPr b="0" lang="en-US" sz="48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</a:rPr>
              <a:t>報告人</a:t>
            </a:r>
            <a:r>
              <a:rPr b="0" lang="en-US" sz="4800" spc="-1" strike="noStrike">
                <a:solidFill>
                  <a:srgbClr val="000000"/>
                </a:solidFill>
                <a:latin typeface="標楷體"/>
              </a:rPr>
              <a:t>: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</a:rPr>
              <a:t>李佩穎</a:t>
            </a:r>
            <a:endParaRPr b="0" lang="en-US" sz="48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</a:rPr>
              <a:t>日期</a:t>
            </a:r>
            <a:r>
              <a:rPr b="0" lang="en-US" sz="4800" spc="-1" strike="noStrike">
                <a:solidFill>
                  <a:srgbClr val="000000"/>
                </a:solidFill>
                <a:latin typeface="標楷體"/>
              </a:rPr>
              <a:t>:108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</a:rPr>
              <a:t>年</a:t>
            </a:r>
            <a:r>
              <a:rPr b="0" lang="en-US" sz="4800" spc="-1" strike="noStrike">
                <a:solidFill>
                  <a:srgbClr val="000000"/>
                </a:solidFill>
                <a:latin typeface="標楷體"/>
              </a:rPr>
              <a:t>1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</a:rPr>
              <a:t>月</a:t>
            </a:r>
            <a:r>
              <a:rPr b="0" lang="en-US" sz="4800" spc="-1" strike="noStrike">
                <a:solidFill>
                  <a:srgbClr val="000000"/>
                </a:solidFill>
                <a:latin typeface="標楷體"/>
              </a:rPr>
              <a:t>16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</a:rPr>
              <a:t>日</a:t>
            </a:r>
            <a:endParaRPr b="0" lang="en-US" sz="48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</a:rPr>
              <a:t>預計辦理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1.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</a:rPr>
              <a:t>教師專業成長研習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2.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</a:rPr>
              <a:t>教師環境教育研習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3.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</a:rPr>
              <a:t>教師聯誼餐會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4.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</a:rPr>
              <a:t>教師聯誼活動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4000" y="1915920"/>
            <a:ext cx="6264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自然農場研習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,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聯誼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,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餐會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,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慶生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pic>
        <p:nvPicPr>
          <p:cNvPr id="47" name="Picture 19" descr="201635 東港自然農場_5693"/>
          <p:cNvPicPr/>
          <p:nvPr/>
        </p:nvPicPr>
        <p:blipFill>
          <a:blip r:embed="rId1"/>
          <a:stretch/>
        </p:blipFill>
        <p:spPr>
          <a:xfrm>
            <a:off x="179280" y="2708280"/>
            <a:ext cx="3168720" cy="1787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1050623 期末歡送餐會_3090"/>
          <p:cNvPicPr/>
          <p:nvPr/>
        </p:nvPicPr>
        <p:blipFill>
          <a:blip r:embed="rId2"/>
          <a:stretch/>
        </p:blipFill>
        <p:spPr>
          <a:xfrm>
            <a:off x="6950160" y="4005360"/>
            <a:ext cx="1942920" cy="2590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9" descr="201635 東港自然農場_99"/>
          <p:cNvPicPr/>
          <p:nvPr/>
        </p:nvPicPr>
        <p:blipFill>
          <a:blip r:embed="rId3"/>
          <a:stretch/>
        </p:blipFill>
        <p:spPr>
          <a:xfrm>
            <a:off x="6948360" y="907920"/>
            <a:ext cx="1944720" cy="2976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492360" y="4724280"/>
            <a:ext cx="3240360" cy="184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5" descr="1051223105年期末會員會議_170116_0006"/>
          <p:cNvPicPr/>
          <p:nvPr/>
        </p:nvPicPr>
        <p:blipFill>
          <a:blip r:embed="rId5"/>
          <a:stretch/>
        </p:blipFill>
        <p:spPr>
          <a:xfrm>
            <a:off x="3492360" y="2708280"/>
            <a:ext cx="3240360" cy="1822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179280" y="4724280"/>
            <a:ext cx="31687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2060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</a:rPr>
              <a:t>入會方式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1.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</a:rPr>
              <a:t>東港海事教師會費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:300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</a:rPr>
              <a:t>元。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2.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</a:rPr>
              <a:t>全教總會費：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1200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</a:rPr>
              <a:t>元。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3.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</a:rPr>
              <a:t>全教產會費：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700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</a:rPr>
              <a:t>元。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8000" y="2060640"/>
            <a:ext cx="907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理監事及會員大會會議討論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1.101~107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年會費結餘：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504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當年會費能有效執行完善。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3.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相關活動經費能申請補助。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4.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舉辦聚餐、慶生會、體育友誼賽、環教活動等以增進教師聯誼及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專業成長。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5.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凡參與教師會辦理之活動者，會員享有部分費用之補助。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6.108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年預計辦理之自強活動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(1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東港自然農場生態美食之旅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(2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林園文史地生態美食之旅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(3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生態公園野餐聯誼之旅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(4)DIY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蛋糕烘培研習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834920" y="1557000"/>
            <a:ext cx="48243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000000"/>
                </a:solidFill>
                <a:latin typeface="標楷體"/>
              </a:rPr>
              <a:t>報告完畢   </a:t>
            </a:r>
            <a:endParaRPr b="0" lang="en-US" sz="7200" spc="-1" strike="noStrike">
              <a:solidFill>
                <a:srgbClr val="000000"/>
              </a:solidFill>
              <a:latin typeface="標楷體"/>
            </a:endParaRPr>
          </a:p>
          <a:p>
            <a:pPr marL="20232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000000"/>
                </a:solidFill>
                <a:latin typeface="標楷體"/>
              </a:rPr>
              <a:t>感謝聆聽</a:t>
            </a:r>
            <a:endParaRPr b="0" lang="en-US" sz="7200" spc="-1" strike="noStrike">
              <a:solidFill>
                <a:srgbClr val="000000"/>
              </a:solidFill>
              <a:latin typeface="標楷體"/>
            </a:endParaRPr>
          </a:p>
          <a:p>
            <a:pPr marL="20232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000000"/>
                </a:solidFill>
                <a:latin typeface="標楷體"/>
              </a:rPr>
              <a:t>祝大家寒假平安快樂</a:t>
            </a:r>
            <a:endParaRPr b="0" lang="en-US" sz="72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17:56:03Z</dcterms:created>
  <dc:creator>longe</dc:creator>
  <dc:description/>
  <dc:language>en-US</dc:language>
  <cp:lastModifiedBy>ron1</cp:lastModifiedBy>
  <dcterms:modified xsi:type="dcterms:W3CDTF">2019-01-13T23:46:53Z</dcterms:modified>
  <cp:revision>98</cp:revision>
  <dc:subject/>
  <dc:title>投影片 1</dc:title>
</cp:coreProperties>
</file>