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3777-3435-4FA4-919A-1390543B6AC0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投影片編號版面配置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F694-1D2E-494F-9EE2-E3EF0319624B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2890-C694-41D5-9B20-AD6113729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C95E-7158-4070-8E88-3FA86193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2CE4-9AC3-4FDD-BBC1-98E001DCE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7BDC-5E36-4963-8716-852294E1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DA5B-890B-41EC-ACE2-E93E09E9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3E24-E44B-4D0F-83CC-1ED38B3E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7E83-5E56-4DA5-888A-0337BE02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33EC-9891-49E3-8FFE-BA53BCB3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6204-E04B-4C70-938C-16A4A7FC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CD16-9DEA-4191-B046-842DC896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B131-AE75-49DD-951B-5946A193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7ECF-04CF-49BF-8D23-212EBB1A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E5F3-8F97-44CE-858C-BFD7CB01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39F1-6FCF-419A-A8D8-90212A59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C34D-AA3A-4701-9D0A-C8F32B41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B19C-0BCC-4C25-BFA6-5954E184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6ED7-1A55-4BF8-8C73-8213C5955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8D54-7ABC-4CCF-802F-85727E00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A489-42A4-40AC-BA7B-863708EF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7AE2-284C-4967-9EBA-A2F0F5DD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A29F-720C-4E88-854F-A2865155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2C70-CFF4-4036-B45B-64DA12E5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F39C-6437-42DC-AA71-A3C85D44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5F78-FA26-4C2E-8852-96E7F7A8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AAA2-3CA8-45EA-9C50-3B11EF07B22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1135-8082-4E31-AA70-7A8501E4DD3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95280" y="98100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Times New Roman"/>
                <a:ea typeface="標楷體"/>
              </a:rPr>
              <a:t>國立東港高級海事水產職業學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476360" y="1413000"/>
            <a:ext cx="6048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0db1"/>
                </a:solidFill>
                <a:latin typeface="Arial"/>
                <a:ea typeface="標楷體"/>
              </a:rPr>
              <a:t>107</a:t>
            </a:r>
            <a:r>
              <a:rPr b="0" lang="zh-TW" sz="4000" spc="-1" strike="noStrike">
                <a:solidFill>
                  <a:srgbClr val="b10db1"/>
                </a:solidFill>
                <a:latin typeface="Arial"/>
                <a:ea typeface="標楷體"/>
              </a:rPr>
              <a:t>學年度第</a:t>
            </a:r>
            <a:r>
              <a:rPr b="0" lang="en-US" sz="4000" spc="-1" strike="noStrike">
                <a:solidFill>
                  <a:srgbClr val="b10db1"/>
                </a:solidFill>
                <a:latin typeface="Arial"/>
                <a:ea typeface="標楷體"/>
              </a:rPr>
              <a:t>1</a:t>
            </a:r>
            <a:r>
              <a:rPr b="0" lang="zh-TW" sz="4000" spc="-1" strike="noStrike">
                <a:solidFill>
                  <a:srgbClr val="b10db1"/>
                </a:solidFill>
                <a:latin typeface="Arial"/>
                <a:ea typeface="標楷體"/>
              </a:rPr>
              <a:t>學期</a:t>
            </a:r>
            <a:br>
              <a:rPr sz="4000"/>
            </a:br>
            <a:r>
              <a:rPr b="0" lang="zh-TW" sz="4000" spc="-1" strike="noStrike">
                <a:solidFill>
                  <a:srgbClr val="b10db1"/>
                </a:solidFill>
                <a:latin typeface="Arial"/>
                <a:ea typeface="標楷體"/>
              </a:rPr>
              <a:t>期末校務會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人事室報告資料</a:t>
            </a:r>
            <a:r>
              <a:rPr b="0" lang="zh-TW" sz="4400" spc="-1" strike="noStrike">
                <a:solidFill>
                  <a:srgbClr val="1f08cc"/>
                </a:solidFill>
                <a:latin typeface="標楷體"/>
                <a:ea typeface="標楷體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99"/>
                </a:solidFill>
                <a:latin typeface="Arial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99"/>
                </a:solidFill>
                <a:latin typeface="Arial"/>
                <a:ea typeface="標楷體"/>
              </a:rPr>
              <a:t>日期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標楷體"/>
              </a:rPr>
              <a:t>:107</a:t>
            </a:r>
            <a:r>
              <a:rPr b="0" lang="zh-TW" sz="3200" spc="-1" strike="noStrike">
                <a:solidFill>
                  <a:srgbClr val="000099"/>
                </a:solidFill>
                <a:latin typeface="Arial"/>
                <a:ea typeface="標楷體"/>
              </a:rPr>
              <a:t>年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標楷體"/>
              </a:rPr>
              <a:t>1</a:t>
            </a:r>
            <a:r>
              <a:rPr b="0" lang="zh-TW" sz="3200" spc="-1" strike="noStrike">
                <a:solidFill>
                  <a:srgbClr val="000099"/>
                </a:solidFill>
                <a:latin typeface="Arial"/>
                <a:ea typeface="標楷體"/>
              </a:rPr>
              <a:t>月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標楷體"/>
              </a:rPr>
              <a:t>16</a:t>
            </a:r>
            <a:r>
              <a:rPr b="0" lang="zh-TW" sz="3200" spc="-1" strike="noStrike">
                <a:solidFill>
                  <a:srgbClr val="000099"/>
                </a:solidFill>
                <a:latin typeface="Arial"/>
                <a:ea typeface="標楷體"/>
              </a:rPr>
              <a:t>日</a:t>
            </a:r>
            <a:r>
              <a:rPr b="1" lang="zh-TW" sz="3600" spc="-1" strike="noStrike">
                <a:solidFill>
                  <a:srgbClr val="000099"/>
                </a:solidFill>
                <a:latin typeface="Arial"/>
                <a:ea typeface="標楷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99"/>
                </a:solidFill>
                <a:latin typeface="Arial"/>
                <a:ea typeface="標楷體"/>
              </a:rPr>
              <a:t>地點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標楷體"/>
              </a:rPr>
              <a:t>:</a:t>
            </a:r>
            <a:r>
              <a:rPr b="0" lang="zh-TW" sz="3200" spc="-1" strike="noStrike">
                <a:solidFill>
                  <a:srgbClr val="000099"/>
                </a:solidFill>
                <a:latin typeface="Arial"/>
                <a:ea typeface="標楷體"/>
              </a:rPr>
              <a:t>第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標楷體"/>
              </a:rPr>
              <a:t>1</a:t>
            </a:r>
            <a:r>
              <a:rPr b="0" lang="zh-TW" sz="3200" spc="-1" strike="noStrike">
                <a:solidFill>
                  <a:srgbClr val="000099"/>
                </a:solidFill>
                <a:latin typeface="Arial"/>
                <a:ea typeface="標楷體"/>
              </a:rPr>
              <a:t>綜合教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10920" y="260280"/>
            <a:ext cx="83739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cc"/>
                </a:solidFill>
                <a:latin typeface="Arial"/>
                <a:ea typeface="標楷體"/>
              </a:rPr>
              <a:t>一、新進人員介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標楷體"/>
                <a:ea typeface="標楷體"/>
              </a:rPr>
              <a:t>教師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標楷體"/>
                <a:ea typeface="標楷體"/>
              </a:rPr>
              <a:t>107.8.</a:t>
            </a:r>
            <a:r>
              <a:rPr b="0" lang="zh-TW" sz="2300" spc="-1" strike="noStrike">
                <a:solidFill>
                  <a:srgbClr val="000000"/>
                </a:solidFill>
                <a:latin typeface="標楷體"/>
                <a:ea typeface="標楷體"/>
              </a:rPr>
              <a:t>航運管理科資訊處理教師</a:t>
            </a:r>
            <a:r>
              <a:rPr b="0" lang="en-US" sz="23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0" lang="zh-TW" sz="2300" spc="-1" strike="noStrike">
                <a:solidFill>
                  <a:srgbClr val="000000"/>
                </a:solidFill>
                <a:latin typeface="標楷體"/>
                <a:ea typeface="標楷體"/>
              </a:rPr>
              <a:t>黃志燻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標楷體"/>
                <a:ea typeface="標楷體"/>
              </a:rPr>
              <a:t>107.8.</a:t>
            </a:r>
            <a:r>
              <a:rPr b="0" lang="zh-TW" sz="2300" spc="-1" strike="noStrike">
                <a:solidFill>
                  <a:srgbClr val="000000"/>
                </a:solidFill>
                <a:latin typeface="標楷體"/>
                <a:ea typeface="標楷體"/>
              </a:rPr>
              <a:t>航運管理科代理教師：林進益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標楷體"/>
                <a:ea typeface="標楷體"/>
              </a:rPr>
              <a:t>107.8.</a:t>
            </a:r>
            <a:r>
              <a:rPr b="0" lang="zh-TW" sz="2300" spc="-1" strike="noStrike">
                <a:solidFill>
                  <a:srgbClr val="000000"/>
                </a:solidFill>
                <a:latin typeface="標楷體"/>
                <a:ea typeface="標楷體"/>
              </a:rPr>
              <a:t>食品科代理教師：郭倩瑜、陳怡今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標楷體"/>
                <a:ea typeface="標楷體"/>
              </a:rPr>
              <a:t>107.8.</a:t>
            </a:r>
            <a:r>
              <a:rPr b="0" lang="zh-TW" sz="2300" spc="-1" strike="noStrike">
                <a:solidFill>
                  <a:srgbClr val="000000"/>
                </a:solidFill>
                <a:latin typeface="標楷體"/>
                <a:ea typeface="標楷體"/>
              </a:rPr>
              <a:t>水產養殖科代理教師：康浩琳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標楷體"/>
                <a:ea typeface="標楷體"/>
              </a:rPr>
              <a:t>107.8.</a:t>
            </a:r>
            <a:r>
              <a:rPr b="0" lang="zh-TW" sz="2300" spc="-1" strike="noStrike">
                <a:solidFill>
                  <a:srgbClr val="000000"/>
                </a:solidFill>
                <a:latin typeface="標楷體"/>
                <a:ea typeface="標楷體"/>
              </a:rPr>
              <a:t>電子科代理教師：廖安全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標楷體"/>
                <a:ea typeface="標楷體"/>
              </a:rPr>
              <a:t>107.8.</a:t>
            </a:r>
            <a:r>
              <a:rPr b="0" lang="zh-TW" sz="2300" spc="-1" strike="noStrike">
                <a:solidFill>
                  <a:srgbClr val="000000"/>
                </a:solidFill>
                <a:latin typeface="標楷體"/>
                <a:ea typeface="標楷體"/>
              </a:rPr>
              <a:t>軍訓教官郭俊寬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標楷體"/>
                <a:ea typeface="標楷體"/>
              </a:rPr>
              <a:t>職員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標楷體"/>
                <a:ea typeface="標楷體"/>
              </a:rPr>
              <a:t>107.7.26</a:t>
            </a:r>
            <a:r>
              <a:rPr b="0" lang="zh-TW" sz="2300" spc="-1" strike="noStrike">
                <a:solidFill>
                  <a:srgbClr val="000000"/>
                </a:solidFill>
                <a:latin typeface="標楷體"/>
                <a:ea typeface="標楷體"/>
              </a:rPr>
              <a:t>總務處幹事李展源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標楷體"/>
                <a:ea typeface="標楷體"/>
              </a:rPr>
              <a:t>107.11.2</a:t>
            </a:r>
            <a:r>
              <a:rPr b="0" lang="zh-TW" sz="2300" spc="-1" strike="noStrike">
                <a:solidFill>
                  <a:srgbClr val="000000"/>
                </a:solidFill>
                <a:latin typeface="標楷體"/>
                <a:ea typeface="標楷體"/>
              </a:rPr>
              <a:t>人事室組員李欣怡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標楷體"/>
                <a:ea typeface="標楷體"/>
              </a:rPr>
              <a:t>108.1.15</a:t>
            </a:r>
            <a:r>
              <a:rPr b="0" lang="zh-TW" sz="2300" spc="-1" strike="noStrike">
                <a:solidFill>
                  <a:srgbClr val="000000"/>
                </a:solidFill>
                <a:latin typeface="標楷體"/>
                <a:ea typeface="標楷體"/>
              </a:rPr>
              <a:t>教務處書記許育瑋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83818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標楷體"/>
              </a:rPr>
              <a:t>108</a:t>
            </a:r>
            <a:r>
              <a:rPr b="1" lang="zh-TW" sz="3600" spc="-1" strike="noStrike">
                <a:solidFill>
                  <a:srgbClr val="3333cc"/>
                </a:solidFill>
                <a:latin typeface="Arial"/>
                <a:ea typeface="標楷體"/>
              </a:rPr>
              <a:t>學年度教師介聘時程：</a:t>
            </a:r>
            <a:r>
              <a:rPr b="1" lang="zh-TW" sz="2400" spc="-1" strike="noStrike">
                <a:solidFill>
                  <a:srgbClr val="3333cc"/>
                </a:solidFill>
                <a:latin typeface="Arial"/>
                <a:ea typeface="標楷體"/>
              </a:rPr>
              <a:t>已公告校內網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08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學年度公立高級中等學校教師介聘於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日至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3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日下午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5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時截止，開放教師介聘資訊作業系統網站受理申請教師登錄資料，申請介聘教師應於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3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日前上網填報資料並列印「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08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學年度公立高級中等學校教師介聘完成線上申請證明」於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08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3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日（星期三）下午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5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時之前併同相關證明文件送人事室，本室應於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08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9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日前完成資料審核及列印教師介聘申請表，經申請人簽名確認併同相關證明文件後完成線上初審，並於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0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日召開教評會審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cc"/>
                </a:solidFill>
                <a:latin typeface="Arial"/>
                <a:ea typeface="標楷體"/>
              </a:rPr>
              <a:t>法令修正相關規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792504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公務員及教師請假規則於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07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1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月修正部分條文，己公告本校網站。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本次修正重點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公務員之事假每年准給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5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日修正為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7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休假申請至少須半日，修正為可以時計，但若申請休假補助（刷國旅卡）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仍應請上午或下午半日以上之休假，始得申請休假補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婚假及喪假計算單位由「半日計」改為「得以時計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cc"/>
                </a:solidFill>
                <a:latin typeface="Arial"/>
                <a:ea typeface="標楷體"/>
              </a:rPr>
              <a:t>文康活動相關訊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0920" y="1052640"/>
            <a:ext cx="79246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辦理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08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年第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次文康活動，假校內舉辦教職員工模彩活動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獎品豐富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及中午提供自助式餐點，請全體教職員工屆時參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時間：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8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日結業式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地點：本校活動中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備註：請教職員工自備餐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3300"/>
                </a:solidFill>
                <a:latin typeface="Arial"/>
              </a:rPr>
              <a:t>提醒事項</a:t>
            </a:r>
            <a:r>
              <a:rPr b="1" lang="zh-TW" sz="3600" spc="-1" strike="noStrike">
                <a:solidFill>
                  <a:srgbClr val="3333cc"/>
                </a:solidFill>
                <a:latin typeface="Arial"/>
                <a:ea typeface="標楷體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07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學年度第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學期子女教育補助費請於本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108)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6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日前檢附相關證件向人事室提出申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4000" spc="-1" strike="noStrike">
              <a:solidFill>
                <a:srgbClr val="3333cc"/>
              </a:solidFill>
              <a:latin typeface="Arial"/>
              <a:ea typeface="標楷體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767ff"/>
                </a:solidFill>
                <a:latin typeface="Times New Roman"/>
                <a:ea typeface="標楷體"/>
              </a:rPr>
              <a:t>報告結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9933ff"/>
                </a:solidFill>
                <a:latin typeface="Times New Roman"/>
                <a:ea typeface="標楷體"/>
              </a:rPr>
              <a:t>                </a:t>
            </a:r>
            <a:r>
              <a:rPr b="0" lang="zh-TW" sz="4800" spc="-1" strike="noStrike">
                <a:solidFill>
                  <a:srgbClr val="9933ff"/>
                </a:solidFill>
                <a:latin typeface="Times New Roman"/>
                <a:ea typeface="標楷體"/>
              </a:rPr>
              <a:t>謝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8T23:37:06Z</dcterms:created>
  <dc:creator>楊敏雄</dc:creator>
  <dc:description/>
  <dc:language>en-US</dc:language>
  <cp:lastModifiedBy>user</cp:lastModifiedBy>
  <cp:lastPrinted>2018-01-17T08:34:28Z</cp:lastPrinted>
  <dcterms:modified xsi:type="dcterms:W3CDTF">2019-01-12T04:52:14Z</dcterms:modified>
  <cp:revision>599</cp:revision>
  <dc:subject/>
  <dc:title>國立東港高級海事水產職業學校</dc:title>
</cp:coreProperties>
</file>