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9CC-3772-4535-84D0-B1780870E83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6A5-287B-4B94-B8D7-EBECBA4AC251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5FB7-063A-4487-B3CF-30B60DEFEDF2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D75-DF64-471F-B4D6-56E30497919D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0F8F-DF8B-4476-8BBF-147CF977DE15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BAD-A677-498D-B23B-D091284A1CE4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232-0334-40E7-8246-B3AFFE08AEE0}" type="slidenum">
              <a:rPr b="0" lang="zh-TW" sz="1200" spc="-1" strike="noStrike">
                <a:solidFill>
                  <a:srgbClr val="fad0e4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626-9E1F-4C80-989C-E297D96C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214-1927-48B7-BC79-5E3CFE9D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72A-C9E4-480C-9164-2E717271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C67-5D74-4693-B8F0-BB60625D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16E-854B-479F-BC3D-235407B9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43A-9EEA-4AB8-89D2-E263263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9CD-6883-4998-A953-39AA50B2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A6C-0507-46C1-A3C4-52A3254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DF8-8C8C-4C0A-9A21-74E3EEF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591-B81A-4F85-BD0E-8DF63D1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1EB-8068-4345-AC56-C9C0B2C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F38-6BE8-4182-80AC-96A70A8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c0a38"/>
                </a:gs>
                <a:gs pos="100000">
                  <a:srgbClr val="ea15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ad0e4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ea15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ad0e4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ad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EFC-E9D7-4033-87F0-BDDDA1CF51BB}" type="slidenum">
              <a:rPr b="0" lang="zh-TW" sz="1400" spc="-1" strike="noStrike">
                <a:solidFill>
                  <a:srgbClr val="fad0e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fad0e4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7fd13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fad0e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7fd1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fad0e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fad0e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s.edu.tw/index.php?p=search&amp;act=do_search&amp;s_contest_number=1071031&amp;s_area=9&amp;s_city=130410&amp;orderby=school_name&amp;order=" TargetMode="External"/><Relationship Id="rId2" Type="http://schemas.openxmlformats.org/officeDocument/2006/relationships/hyperlink" Target="http://www.shs.edu.tw/index.php?p=search&amp;act=do_search&amp;s_contest_number=1071031&amp;s_area=9&amp;s_city=130410&amp;orderby=writer_classname&amp;order=" TargetMode="External"/><Relationship Id="rId3" Type="http://schemas.openxmlformats.org/officeDocument/2006/relationships/hyperlink" Target="http://www.shs.edu.tw/index.php?p=search&amp;act=do_search&amp;s_contest_number=1071031&amp;s_area=9&amp;s_city=130410&amp;orderby=writer_name&amp;order=" TargetMode="External"/><Relationship Id="rId4" Type="http://schemas.openxmlformats.org/officeDocument/2006/relationships/hyperlink" Target="http://www.shs.edu.tw/index.php?p=search&amp;act=do_search&amp;s_contest_number=1071031&amp;s_area=9&amp;s_city=130410&amp;orderby=over_name&amp;order=" TargetMode="External"/><Relationship Id="rId5" Type="http://schemas.openxmlformats.org/officeDocument/2006/relationships/hyperlink" Target="http://www.shs.edu.tw/index.php?p=search&amp;act=do_search&amp;s_contest_number=1071031&amp;s_area=9&amp;s_city=130410&amp;orderby=over_c_title&amp;order=" TargetMode="External"/><Relationship Id="rId6" Type="http://schemas.openxmlformats.org/officeDocument/2006/relationships/hyperlink" Target="http://www.shs.edu.tw/index.php?p=search&amp;act=do_search&amp;s_contest_number=1071031&amp;s_area=9&amp;s_city=130410&amp;orderby=score_ranking&amp;order=" TargetMode="External"/><Relationship Id="rId7" Type="http://schemas.openxmlformats.org/officeDocument/2006/relationships/hyperlink" Target="http://www.shs.edu.tw/search_view_over.php?work_id=2214128" TargetMode="External"/><Relationship Id="rId8" Type="http://schemas.openxmlformats.org/officeDocument/2006/relationships/hyperlink" Target="http://www.shs.edu.tw/search_view_over.php?work_id=2227722" TargetMode="External"/><Relationship Id="rId9" Type="http://schemas.openxmlformats.org/officeDocument/2006/relationships/hyperlink" Target="http://www.shs.edu.tw/search_view_over.php?work_id=2227653" TargetMode="External"/><Relationship Id="rId10" Type="http://schemas.openxmlformats.org/officeDocument/2006/relationships/hyperlink" Target="http://www.shs.edu.tw/search_view_over.php?work_id=2220495" TargetMode="External"/><Relationship Id="rId11" Type="http://schemas.openxmlformats.org/officeDocument/2006/relationships/hyperlink" Target="http://www.shs.edu.tw/search_view_over.php?work_id=2221365" TargetMode="External"/><Relationship Id="rId12" Type="http://schemas.openxmlformats.org/officeDocument/2006/relationships/hyperlink" Target="http://www.shs.edu.tw/search_view_over.php?work_id=2217733" TargetMode="External"/><Relationship Id="rId13" Type="http://schemas.openxmlformats.org/officeDocument/2006/relationships/hyperlink" Target="http://www.shs.edu.tw/search_view_over.php?work_id=2227651" TargetMode="External"/><Relationship Id="rId14" Type="http://schemas.openxmlformats.org/officeDocument/2006/relationships/hyperlink" Target="http://www.shs.edu.tw/search_view_over.php?work_id=2227651" TargetMode="External"/><Relationship Id="rId15" Type="http://schemas.openxmlformats.org/officeDocument/2006/relationships/hyperlink" Target="http://www.shs.edu.tw/search_view_over.php?work_id=2227651" TargetMode="External"/><Relationship Id="rId16" Type="http://schemas.openxmlformats.org/officeDocument/2006/relationships/hyperlink" Target="http://www.shs.edu.tw/search_view_over.php?work_id=2228242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hs.edu.tw/index.php?p=search&amp;act=do_search&amp;s_contest_number=1071115&amp;s_area=9&amp;s_city=130410&amp;orderby=school_name&amp;order=" TargetMode="External"/><Relationship Id="rId2" Type="http://schemas.openxmlformats.org/officeDocument/2006/relationships/hyperlink" Target="http://www.shs.edu.tw/index.php?p=search&amp;act=do_search&amp;s_contest_number=1071115&amp;s_area=9&amp;s_city=130410&amp;orderby=writer_name&amp;order=" TargetMode="External"/><Relationship Id="rId3" Type="http://schemas.openxmlformats.org/officeDocument/2006/relationships/hyperlink" Target="http://www.shs.edu.tw/index.php?p=search&amp;act=do_search&amp;s_contest_number=1071115&amp;s_area=9&amp;s_city=130410&amp;orderby=essay_name&amp;order=" TargetMode="External"/><Relationship Id="rId4" Type="http://schemas.openxmlformats.org/officeDocument/2006/relationships/hyperlink" Target="http://www.shs.edu.tw/index.php?p=search&amp;act=do_search&amp;s_contest_number=1071115&amp;s_area=9&amp;s_city=130410&amp;orderby=score_ranking&amp;order=" TargetMode="External"/><Relationship Id="rId5" Type="http://schemas.openxmlformats.org/officeDocument/2006/relationships/hyperlink" Target="http://www.shs.edu.tw/works/essay/2018/11/2018111610213973.pdf" TargetMode="External"/><Relationship Id="rId6" Type="http://schemas.openxmlformats.org/officeDocument/2006/relationships/hyperlink" Target="http://www.shs.edu.tw/works/essay/2018/11/2018111510132302.pdf" TargetMode="External"/><Relationship Id="rId7" Type="http://schemas.openxmlformats.org/officeDocument/2006/relationships/hyperlink" Target="http://www.shs.edu.tw/works/essay/2018/11/2018111509130511.pdf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50920" y="26028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國立東港高級海事水產職業學校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3280" y="1773360"/>
            <a:ext cx="604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b8803"/>
                </a:solidFill>
                <a:latin typeface="Arial"/>
                <a:ea typeface="標楷體"/>
              </a:rPr>
              <a:t>   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8803"/>
                </a:solidFill>
                <a:latin typeface="Arial"/>
                <a:ea typeface="標楷體"/>
              </a:rPr>
              <a:t>  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8803"/>
                </a:solidFill>
                <a:latin typeface="Arial"/>
                <a:ea typeface="標楷體"/>
              </a:rPr>
              <a:t>107</a:t>
            </a:r>
            <a:r>
              <a:rPr b="1" lang="zh-TW" sz="4800" spc="-1" strike="noStrike">
                <a:solidFill>
                  <a:srgbClr val="eb8803"/>
                </a:solidFill>
                <a:latin typeface="Arial"/>
                <a:ea typeface="標楷體"/>
              </a:rPr>
              <a:t>學年度第一學期</a:t>
            </a:r>
            <a:br>
              <a:rPr sz="6000"/>
            </a:b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期末校務會議</a:t>
            </a: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08cc"/>
                </a:solidFill>
                <a:latin typeface="標楷體"/>
                <a:ea typeface="標楷體"/>
              </a:rPr>
              <a:t>圖書館報告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08cc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日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:108.1.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第一綜合教室</a:t>
            </a: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</p:txBody>
      </p:sp>
      <p:pic>
        <p:nvPicPr>
          <p:cNvPr id="53" name="Picture 8" descr="1"/>
          <p:cNvPicPr/>
          <p:nvPr/>
        </p:nvPicPr>
        <p:blipFill>
          <a:blip r:embed="rId1"/>
          <a:stretch/>
        </p:blipFill>
        <p:spPr>
          <a:xfrm>
            <a:off x="179280" y="1844640"/>
            <a:ext cx="3100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晨讀及書寫心得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以一、二年級為主，感謝部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導師陪同學生參與晨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落實每位學生完成一篇心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請導師同仁持續關注與協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晨間閱讀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喜歡閱讀就好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1" name="Picture 2" descr="I:\東水簡訊第17期資料108.1.10..出版\6第六版圖書館\107-1晨讀\1539922645294.jpg"/>
          <p:cNvPicPr/>
          <p:nvPr/>
        </p:nvPicPr>
        <p:blipFill>
          <a:blip r:embed="rId1"/>
          <a:stretch/>
        </p:blipFill>
        <p:spPr>
          <a:xfrm>
            <a:off x="179280" y="1844640"/>
            <a:ext cx="4316400" cy="36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I:\東水簡訊第17期資料108.1.10..出版\6第六版圖書館\107-1晨讀\P1050737.JPG"/>
          <p:cNvPicPr/>
          <p:nvPr/>
        </p:nvPicPr>
        <p:blipFill>
          <a:blip r:embed="rId2"/>
          <a:stretch/>
        </p:blipFill>
        <p:spPr>
          <a:xfrm>
            <a:off x="4648320" y="1916280"/>
            <a:ext cx="3809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志工訓練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Picture 2" descr="I:\東水簡訊第17期資料108.1.10..出版\6第六版圖書館\107-1閱讀志工社照片11.14\P1050871.JPG"/>
          <p:cNvPicPr/>
          <p:nvPr/>
        </p:nvPicPr>
        <p:blipFill>
          <a:blip r:embed="rId1"/>
          <a:stretch/>
        </p:blipFill>
        <p:spPr>
          <a:xfrm>
            <a:off x="395280" y="1844640"/>
            <a:ext cx="4100400" cy="403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:\東水簡訊第17期資料108.1.10..出版\6第六版圖書館\107-1閱讀志工社照片11.14\P1050874.JPG"/>
          <p:cNvPicPr/>
          <p:nvPr/>
        </p:nvPicPr>
        <p:blipFill>
          <a:blip r:embed="rId2"/>
          <a:stretch/>
        </p:blipFill>
        <p:spPr>
          <a:xfrm>
            <a:off x="4648320" y="1844640"/>
            <a:ext cx="4316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校外參訪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TW" sz="4800" spc="-1" strike="noStrike">
                <a:solidFill>
                  <a:srgbClr val="0000ff"/>
                </a:solidFill>
                <a:latin typeface="Arial"/>
              </a:rPr>
              <a:t>美和科大圖書館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2" descr="I:\圖書館\活動計畫\107-1美和科大圖書館參訪\P_20181031_111603.jpg"/>
          <p:cNvPicPr/>
          <p:nvPr/>
        </p:nvPicPr>
        <p:blipFill>
          <a:blip r:embed="rId1"/>
          <a:stretch/>
        </p:blipFill>
        <p:spPr>
          <a:xfrm>
            <a:off x="468360" y="1413000"/>
            <a:ext cx="3279600" cy="468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I:\圖書館\活動計畫\107-1美和科大圖書館參訪\P_20181031_110940.jpg"/>
          <p:cNvPicPr/>
          <p:nvPr/>
        </p:nvPicPr>
        <p:blipFill>
          <a:blip r:embed="rId2"/>
          <a:stretch/>
        </p:blipFill>
        <p:spPr>
          <a:xfrm>
            <a:off x="3995640" y="2060640"/>
            <a:ext cx="5040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標題 1"/>
          <p:cNvSpPr/>
          <p:nvPr/>
        </p:nvSpPr>
        <p:spPr>
          <a:xfrm>
            <a:off x="1187280" y="333360"/>
            <a:ext cx="6858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結    語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歡迎大家推薦優良圖書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祝福同仁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諸事大吉 ， 好運一整年 </a:t>
            </a:r>
            <a:r>
              <a:rPr b="1" lang="en-US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!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標題 1"/>
          <p:cNvSpPr/>
          <p:nvPr/>
        </p:nvSpPr>
        <p:spPr>
          <a:xfrm>
            <a:off x="1136520" y="-100080"/>
            <a:ext cx="6858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圖書館館藏概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標楷體"/>
              </a:rPr>
              <a:t>(107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  <a:ea typeface="標楷體"/>
              </a:rPr>
              <a:t>學年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  <a:ea typeface="標楷體"/>
              </a:rPr>
              <a:t>學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d0e4"/>
              </a:solidFill>
              <a:latin typeface="Times New Roman"/>
            </a:endParaRPr>
          </a:p>
        </p:txBody>
      </p:sp>
      <p:pic>
        <p:nvPicPr>
          <p:cNvPr id="55" name="Picture 3" descr="D:\scan\img-109100819\img-109100819-0001-2.jpg"/>
          <p:cNvPicPr/>
          <p:nvPr/>
        </p:nvPicPr>
        <p:blipFill>
          <a:blip r:embed="rId1"/>
          <a:stretch/>
        </p:blipFill>
        <p:spPr>
          <a:xfrm>
            <a:off x="324000" y="90792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1000080"/>
            <a:ext cx="8713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月辦理新書展示活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辦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7.10.31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梯次全國閱讀心得寫作比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辦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7.11.15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梯次全國小論文寫作比賽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6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/26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/24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節辦理閱讀心得寫作研習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6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/17(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/7(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下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.6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節辦理小論文寫作研習活動</a:t>
            </a:r>
            <a:r>
              <a:rPr b="1" lang="zh-TW" sz="24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11/14(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三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)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下午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5.6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節辦理圖書志工訓練研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編輯東水簡訊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辦理優質化提升人文藝術涵養優良圖書館參訪活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901"/>
              </a:spcBef>
              <a:buClr>
                <a:srgbClr val="ea157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標題 1"/>
          <p:cNvSpPr/>
          <p:nvPr/>
        </p:nvSpPr>
        <p:spPr>
          <a:xfrm>
            <a:off x="285840" y="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標楷體"/>
              </a:rPr>
              <a:t>本學期已辦理工作事項</a:t>
            </a:r>
            <a:endParaRPr b="0" lang="en-US" sz="36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標題 1"/>
          <p:cNvSpPr/>
          <p:nvPr/>
        </p:nvSpPr>
        <p:spPr>
          <a:xfrm>
            <a:off x="900000" y="476280"/>
            <a:ext cx="7632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</a:t>
            </a:r>
            <a:r>
              <a:rPr b="1" lang="zh-TW" sz="3400" spc="-1" strike="noStrike">
                <a:solidFill>
                  <a:srgbClr val="0000ff"/>
                </a:solidFill>
                <a:latin typeface="Arial"/>
                <a:ea typeface="標楷體"/>
              </a:rPr>
              <a:t>閱讀心得寫作比賽</a:t>
            </a:r>
            <a:r>
              <a:rPr b="1" lang="en-US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107-10-31</a:t>
            </a: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梯次</a:t>
            </a:r>
            <a:endParaRPr b="0" lang="en-US" sz="3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投稿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標楷體"/>
              </a:rPr>
              <a:t>16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篇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，獲獎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8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篇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篇特優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，</a:t>
            </a: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6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篇優等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篇甲等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，謝謝許多師長推</a:t>
            </a: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動指導。</a:t>
            </a: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得獎同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標楷體"/>
              </a:rPr>
              <a:t>:</a:t>
            </a: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閱讀心得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071031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梯次得獎名單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907920"/>
          <a:ext cx="7056360" cy="4932360"/>
        </p:xfrm>
        <a:graphic>
          <a:graphicData uri="http://schemas.openxmlformats.org/drawingml/2006/table">
            <a:tbl>
              <a:tblPr/>
              <a:tblGrid>
                <a:gridCol w="1216080"/>
                <a:gridCol w="731880"/>
                <a:gridCol w="731880"/>
                <a:gridCol w="1187280"/>
                <a:gridCol w="1893960"/>
                <a:gridCol w="503280"/>
                <a:gridCol w="792000"/>
              </a:tblGrid>
              <a:tr h="52236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"/>
                        </a:rPr>
                        <a:t>學校名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2"/>
                        </a:rPr>
                        <a:t>班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3"/>
                        </a:rPr>
                        <a:t>作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4"/>
                        </a:rPr>
                        <a:t>作品標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5"/>
                        </a:rPr>
                        <a:t>閱讀書名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6"/>
                        </a:rPr>
                        <a:t>名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指導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老師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4860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養二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蔡佳祐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7"/>
                        </a:rPr>
                        <a:t>混血狼馴化之旅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白牙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特優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7920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食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鈴筑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8"/>
                        </a:rPr>
                        <a:t>人生有多殘酷你就該有多堅強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人生有多殘酷你就該有多堅強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優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鍾秉君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  <a:tr h="57636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食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蘇子萍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9"/>
                        </a:rPr>
                        <a:t>我們都會好好的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我們都會好好的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優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鍾秉君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39528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家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吳宜珊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0"/>
                        </a:rPr>
                        <a:t>怪怪怪怪物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怪怪怪怪物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優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美偵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  <a:tr h="39348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家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許珮瑱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1"/>
                        </a:rPr>
                        <a:t>遺憾收納員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遺憾收納員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優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美偵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39528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食一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張行之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2"/>
                        </a:rPr>
                        <a:t>看不見的奇蹟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看不見的奇蹟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優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曉慧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  <a:tr h="685800"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食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張庭瑄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3"/>
                        </a:rPr>
                        <a:t>表白</a:t>
                      </a: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4"/>
                        </a:rPr>
                        <a:t>:</a:t>
                      </a: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5"/>
                        </a:rPr>
                        <a:t>那些說不出口的話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表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: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那些說不出口的話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優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鍾秉君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  <a:tr h="6858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輪二乙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葉冠彣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6"/>
                        </a:rPr>
                        <a:t>「地球的變動讀後心得」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地理課沒教的事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: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看見地球的變動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鐘秉君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標題 1"/>
          <p:cNvSpPr/>
          <p:nvPr/>
        </p:nvSpPr>
        <p:spPr>
          <a:xfrm>
            <a:off x="755640" y="1773360"/>
            <a:ext cx="7993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 </a:t>
            </a: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全國小論文比賽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107-11-15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梯次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endParaRPr b="0" lang="en-US" sz="36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1.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投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19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篇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標楷體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7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人次，獲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7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篇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甲等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，謝謝許多師長推動指導。</a:t>
            </a: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得獎同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標楷體"/>
              </a:rPr>
              <a:t>:</a:t>
            </a: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d0e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ff"/>
                </a:solidFill>
                <a:latin typeface="Arial"/>
              </a:rPr>
              <a:t>小論文比賽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107-11-15</a:t>
            </a:r>
            <a:r>
              <a:rPr b="1" lang="zh-TW" sz="3800" spc="-1" strike="noStrike">
                <a:solidFill>
                  <a:srgbClr val="0000ff"/>
                </a:solidFill>
                <a:latin typeface="Arial"/>
              </a:rPr>
              <a:t>梯次得獎名單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836640"/>
          <a:ext cx="7129440" cy="5632560"/>
        </p:xfrm>
        <a:graphic>
          <a:graphicData uri="http://schemas.openxmlformats.org/drawingml/2006/table">
            <a:tbl>
              <a:tblPr/>
              <a:tblGrid>
                <a:gridCol w="1326960"/>
                <a:gridCol w="792360"/>
                <a:gridCol w="1122120"/>
                <a:gridCol w="1000440"/>
                <a:gridCol w="2138040"/>
                <a:gridCol w="749520"/>
              </a:tblGrid>
              <a:tr h="36396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1"/>
                        </a:rPr>
                        <a:t>學校名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班別 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2"/>
                        </a:rPr>
                        <a:t>作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指導老師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3"/>
                        </a:rPr>
                        <a:t>作品標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4"/>
                        </a:rPr>
                        <a:t>名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57024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食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洪嬿晴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周韋程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林軒佑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楊雅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5"/>
                        </a:rPr>
                        <a:t>凝固劑對布丁之探討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  <a:tr h="81828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食三乙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姿云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亭光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蔡念真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李百齡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林軒佑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6"/>
                        </a:rPr>
                        <a:t>笑龍滿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57492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食三乙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林玥錡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洪筱媚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李百齡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林軒佑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b8803"/>
                          </a:solidFill>
                          <a:uFillTx/>
                          <a:latin typeface="微軟正黑體"/>
                          <a:ea typeface="新細明體"/>
                          <a:hlinkClick r:id="rId7"/>
                        </a:rPr>
                        <a:t>澱粉大不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  <a:tr h="81828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管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楊子皚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黃秋菊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羅喬云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李桂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一機在手 ─ 行動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P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著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81828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管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溫賢良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張馨分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梁瑋升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李桂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FB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與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Youtub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直播平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  <a:tr h="81828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管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伊琳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才宇潔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賴沛妘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李桂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抓得到的成就感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d"/>
                    </a:solidFill>
                  </a:tcPr>
                </a:tc>
              </a:tr>
              <a:tr h="818280"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國立東港海事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管三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洪高夆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蔡廷昇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陳楓文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李桂雲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軟正黑體"/>
                          <a:ea typeface="新細明體"/>
                        </a:rPr>
                        <a:t>唐朝官 清朝禮“迎”接東港王中“王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1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  <a:tc>
                  <a:txBody>
                    <a:bodyPr lIns="43920" rIns="4392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甲等</a:t>
                      </a:r>
                      <a:endParaRPr b="0" lang="en-US" sz="1600" spc="-1" strike="noStrike">
                        <a:solidFill>
                          <a:srgbClr val="fad0e4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期東水簡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感謝各處室提供資料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5" name="Picture 4" descr="D:\scan\img-108165828\img-108165828-0001.jpg"/>
          <p:cNvPicPr/>
          <p:nvPr/>
        </p:nvPicPr>
        <p:blipFill>
          <a:blip r:embed="rId1"/>
          <a:stretch/>
        </p:blipFill>
        <p:spPr>
          <a:xfrm>
            <a:off x="900000" y="1268280"/>
            <a:ext cx="73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7" name="Picture 2" descr="D:\scan\img-108170449\img-108170449-0001.jpg"/>
          <p:cNvPicPr/>
          <p:nvPr/>
        </p:nvPicPr>
        <p:blipFill>
          <a:blip r:embed="rId1"/>
          <a:stretch/>
        </p:blipFill>
        <p:spPr>
          <a:xfrm>
            <a:off x="755640" y="333360"/>
            <a:ext cx="77040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23:37:06Z</dcterms:created>
  <dc:creator>楊敏雄</dc:creator>
  <dc:description/>
  <dc:language>en-US</dc:language>
  <cp:lastModifiedBy>admin</cp:lastModifiedBy>
  <dcterms:modified xsi:type="dcterms:W3CDTF">2019-01-15T06:37:08Z</dcterms:modified>
  <cp:revision>565</cp:revision>
  <dc:subject/>
  <dc:title>國立東港高級海事水產職業學校</dc:title>
</cp:coreProperties>
</file>